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92C-C8C1-4C92-B32D-62E11CD9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49C-2899-4303-A8A8-B923779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D9B-0649-4A17-B497-FAA5DCB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7E5-75B5-4A98-A716-C092FD2F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C54-9FF0-44B5-B41C-B72D0DA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1F8-47A6-47C3-8221-909599AD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DA4-3662-4FE6-BBEE-FB42B7B1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A07-8129-43B9-A098-ED27291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736-02C3-4C31-B4DE-C1CFEA99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4F3-39D3-46AC-88E5-F54FC72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F34-1024-481E-B849-22DB0F63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4C1-1CFD-4F53-B814-1868FD0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5B5-3955-4AEC-96D2-E67301967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Эмблема круг"/>
          <p:cNvPicPr/>
          <p:nvPr/>
        </p:nvPicPr>
        <p:blipFill>
          <a:blip r:embed="rId2"/>
          <a:stretch/>
        </p:blipFill>
        <p:spPr>
          <a:xfrm>
            <a:off x="2124000" y="37162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364500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hkol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abv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34:48Z</dcterms:created>
  <dc:creator>Helen</dc:creator>
  <dc:description/>
  <dc:language>en-US</dc:language>
  <cp:lastModifiedBy>Берюхов</cp:lastModifiedBy>
  <dcterms:modified xsi:type="dcterms:W3CDTF">2025-07-04T13:45:27Z</dcterms:modified>
  <cp:revision>5</cp:revision>
  <dc:subject/>
  <dc:title>Слайд 1</dc:title>
</cp:coreProperties>
</file>